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9.wmf" ContentType="image/x-wmf"/>
  <Override PartName="/ppt/media/image15.wmf" ContentType="image/x-wmf"/>
  <Override PartName="/ppt/media/image13.wmf" ContentType="image/x-wmf"/>
  <Override PartName="/ppt/media/EXPLODE.WAV" ContentType="audio/x-wav"/>
  <Override PartName="/ppt/media/image12.wmf" ContentType="image/x-wmf"/>
  <Override PartName="/ppt/media/CASHREG.WAV" ContentType="audio/x-wav"/>
  <Override PartName="/ppt/media/image1.wmf" ContentType="image/x-wmf"/>
  <Override PartName="/ppt/media/image4.wmf" ContentType="image/x-wmf"/>
  <Override PartName="/ppt/media/PROJCTOR.WAV" ContentType="audio/x-wav"/>
  <Override PartName="/ppt/media/image22.wmf" ContentType="image/x-wmf"/>
  <Override PartName="/ppt/media/image5.wmf" ContentType="image/x-wmf"/>
  <Override PartName="/ppt/media/image11.wmf" ContentType="image/x-wmf"/>
  <Override PartName="/ppt/media/DRIVEBY.WAV" ContentType="audio/x-wav"/>
  <Override PartName="/ppt/media/image17.wmf" ContentType="image/x-wmf"/>
  <Override PartName="/ppt/media/APPLAUSE.WAV" ContentType="audio/x-wav"/>
  <Override PartName="/ppt/media/caralarmoff.wav" ContentType="audio/x-wav"/>
  <Override PartName="/ppt/media/image7.wmf" ContentType="image/x-wmf"/>
  <Override PartName="/ppt/media/image20.wmf" ContentType="image/x-wmf"/>
  <Override PartName="/ppt/media/jetflyby.wav" ContentType="audio/x-wav"/>
  <Override PartName="/ppt/media/CHIMES.WAV" ContentType="audio/x-wav"/>
  <Override PartName="/ppt/media/image18.wmf" ContentType="image/x-wmf"/>
  <Override PartName="/ppt/media/image21.wmf" ContentType="image/x-wmf"/>
  <Override PartName="/ppt/media/image23.wmf" ContentType="image/x-wmf"/>
  <Override PartName="/ppt/media/WHOOSH.WAV" ContentType="audio/x-wav"/>
  <Override PartName="/ppt/media/image16.wmf" ContentType="image/x-wmf"/>
  <Override PartName="/ppt/media/LASER.WAV" ContentType="audio/x-wav"/>
  <Override PartName="/ppt/media/image14.wmf" ContentType="image/x-wmf"/>
  <Override PartName="/ppt/media/image3.wmf" ContentType="image/x-wmf"/>
  <Override PartName="/ppt/media/image2.wmf" ContentType="image/x-wmf"/>
  <Override PartName="/ppt/media/image6.wmf" ContentType="image/x-wmf"/>
  <Override PartName="/ppt/media/image8.wmf" ContentType="image/x-wmf"/>
  <Override PartName="/ppt/media/caralarmon.wav" ContentType="audio/x-wav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BA1-8CEE-4E3E-BC37-6DF21978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27B-C273-4F8F-AECA-D9AB029D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937-C4AF-4DB1-A913-C145FAC2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158-778B-49CF-B83F-422205F3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6CC-EE36-486F-A444-08651744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4A7-E6C0-4C55-90EC-73C1EDF2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D82-E625-4C84-8631-3082B902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2BF-6317-4798-A19C-F2B2E00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BCF-55F6-4309-B025-7D153AA3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FA0-C230-46D8-8BCC-B4DE4495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99D-60AC-4FC4-A57F-C568E873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B37-5EBE-4696-A278-EE04A2B5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0E4E-EF1C-43A2-B6E1-5A1B4B2F8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audio" Target="../media/jetflyby.wav"/><Relationship Id="rId10" Type="http://schemas.openxmlformats.org/officeDocument/2006/relationships/audio" Target="../media/CASHREG.WAV"/><Relationship Id="rId11" Type="http://schemas.openxmlformats.org/officeDocument/2006/relationships/audio" Target="../media/PROJCTOR.WAV"/><Relationship Id="rId12" Type="http://schemas.openxmlformats.org/officeDocument/2006/relationships/audio" Target="../media/DRIVEBY.WAV"/><Relationship Id="rId13" Type="http://schemas.openxmlformats.org/officeDocument/2006/relationships/audio" Target="../media/LASER.WAV"/><Relationship Id="rId14" Type="http://schemas.openxmlformats.org/officeDocument/2006/relationships/audio" Target="../media/WHOOSH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PROJCTOR.WAV"/><Relationship Id="rId20" Type="http://schemas.openxmlformats.org/officeDocument/2006/relationships/audio" Target="../media/DRIVEBY.WAV"/><Relationship Id="rId21" Type="http://schemas.openxmlformats.org/officeDocument/2006/relationships/audio" Target="../media/LASER.WAV"/><Relationship Id="rId22" Type="http://schemas.openxmlformats.org/officeDocument/2006/relationships/audio" Target="../media/WHOOSH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APPLAUSE.WAV"/><Relationship Id="rId26" Type="http://schemas.openxmlformats.org/officeDocument/2006/relationships/audio" Target="../media/APPLAUSE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audio" Target="../media/PROJCTOR.WAV"/><Relationship Id="rId6" Type="http://schemas.openxmlformats.org/officeDocument/2006/relationships/audio" Target="../media/DRIVEBY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audio" Target="../media/caralarmon.wav"/><Relationship Id="rId14" Type="http://schemas.openxmlformats.org/officeDocument/2006/relationships/audio" Target="../media/CHIMES.WAV"/><Relationship Id="rId15" Type="http://schemas.openxmlformats.org/officeDocument/2006/relationships/audio" Target="../media/DRIVEBY.WAV"/><Relationship Id="rId16" Type="http://schemas.openxmlformats.org/officeDocument/2006/relationships/audio" Target="../media/LASER.WAV"/><Relationship Id="rId17" Type="http://schemas.openxmlformats.org/officeDocument/2006/relationships/audio" Target="../media/WHOOSH.WAV"/><Relationship Id="rId18" Type="http://schemas.openxmlformats.org/officeDocument/2006/relationships/audio" Target="../media/EXPLODE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audio" Target="../media/CASHREG.WAV"/><Relationship Id="rId20" Type="http://schemas.openxmlformats.org/officeDocument/2006/relationships/audio" Target="../media/caralarmoff.wav"/><Relationship Id="rId21" Type="http://schemas.openxmlformats.org/officeDocument/2006/relationships/audio" Target="../media/CHIMES.WAV"/><Relationship Id="rId22" Type="http://schemas.openxmlformats.org/officeDocument/2006/relationships/audio" Target="../media/LASER.WAV"/><Relationship Id="rId23" Type="http://schemas.openxmlformats.org/officeDocument/2006/relationships/audio" Target="../media/CHIMES.WAV"/><Relationship Id="rId24" Type="http://schemas.openxmlformats.org/officeDocument/2006/relationships/audio" Target="../media/LASER.WAV"/><Relationship Id="rId25" Type="http://schemas.openxmlformats.org/officeDocument/2006/relationships/audio" Target="../media/caralarmoff.wav"/><Relationship Id="rId26" Type="http://schemas.openxmlformats.org/officeDocument/2006/relationships/audio" Target="../media/CHIMES.WAV"/><Relationship Id="rId27" Type="http://schemas.openxmlformats.org/officeDocument/2006/relationships/audio" Target="../media/LASER.WAV"/><Relationship Id="rId28" Type="http://schemas.openxmlformats.org/officeDocument/2006/relationships/audio" Target="../media/CHIMES.WAV"/><Relationship Id="rId29" Type="http://schemas.openxmlformats.org/officeDocument/2006/relationships/audio" Target="../media/LASER.WAV"/><Relationship Id="rId30" Type="http://schemas.openxmlformats.org/officeDocument/2006/relationships/audio" Target="../media/caralarmoff.wav"/><Relationship Id="rId31" Type="http://schemas.openxmlformats.org/officeDocument/2006/relationships/audio" Target="../media/CHIMES.WAV"/><Relationship Id="rId32" Type="http://schemas.openxmlformats.org/officeDocument/2006/relationships/audio" Target="../media/LASER.WAV"/><Relationship Id="rId33" Type="http://schemas.openxmlformats.org/officeDocument/2006/relationships/audio" Target="../media/CHIMES.WAV"/><Relationship Id="rId34" Type="http://schemas.openxmlformats.org/officeDocument/2006/relationships/audio" Target="../media/LASER.WAV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audio" Target="../media/CASHREG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CHIMES.WAV"/><Relationship Id="rId17" Type="http://schemas.openxmlformats.org/officeDocument/2006/relationships/audio" Target="../media/LASER.WAV"/><Relationship Id="rId18" Type="http://schemas.openxmlformats.org/officeDocument/2006/relationships/audio" Target="../media/CHIMES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752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.  - 4 and -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ph the numbers on a number line. Then write two inequalities that compare the two numb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28600" y="26668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l    l    l    l    l    l    l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819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-7   -6  -5  -4   -3   -2  -1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3352680"/>
          <a:ext cx="23799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2379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38080" y="4191120"/>
          <a:ext cx="23799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91120"/>
                    <a:ext cx="2379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24280" y="1752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.  - 2.3 and - 2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266688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      l            l     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2819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       -2           -1   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898880" y="3352680"/>
          <a:ext cx="32515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98880" y="3352680"/>
                    <a:ext cx="3251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98880" y="4191120"/>
          <a:ext cx="32515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98880" y="4191120"/>
                    <a:ext cx="3251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752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3.  5 and -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8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raph the numbers on a number line. Then write two inequalities that compare the two numb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28600" y="2666880"/>
            <a:ext cx="5105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2819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  -6     -4     -2      0      2      4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9920" y="3352680"/>
          <a:ext cx="19144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3352680"/>
                    <a:ext cx="1914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069920" y="4191120"/>
          <a:ext cx="19144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9920" y="4191120"/>
                    <a:ext cx="1914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2193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.  2, -3, -2.5, 4.5, -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6668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438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819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    -3     -2     -1      0      1      2       3 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25146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8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the numbers in increasing order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8160" y="175248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rst think of their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3526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6920" y="3352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, -2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7120" y="33526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, -1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6960" y="3352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,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5400" y="3352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, 4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20040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2971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      l      l      l      l      l      l      l      l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352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        -2            -1               0  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0481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0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the numbers in increasing order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069920" y="228600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rst think of their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0481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90720" y="1066680"/>
          <a:ext cx="457200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45720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76520" y="4343400"/>
          <a:ext cx="74916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43400"/>
                    <a:ext cx="7491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286000" y="3962520"/>
          <a:ext cx="133200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962520"/>
                    <a:ext cx="133200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505320" y="3962520"/>
          <a:ext cx="1331640" cy="13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962520"/>
                    <a:ext cx="13316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724280" y="3962520"/>
          <a:ext cx="92736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962520"/>
                    <a:ext cx="92736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673600" y="4338720"/>
          <a:ext cx="70488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73600" y="4338720"/>
                    <a:ext cx="704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2680" y="28954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ppo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2438280"/>
          <a:ext cx="152388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15238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143000" y="3505320"/>
          <a:ext cx="704880" cy="52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7048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0" y="609480"/>
            <a:ext cx="9144000" cy="1797120"/>
            <a:chOff x="0" y="609480"/>
            <a:chExt cx="9144000" cy="1797120"/>
          </a:xfrm>
        </p:grpSpPr>
        <p:sp>
          <p:nvSpPr>
            <p:cNvPr id="130" name=""/>
            <p:cNvSpPr/>
            <p:nvPr/>
          </p:nvSpPr>
          <p:spPr>
            <a:xfrm>
              <a:off x="0" y="609480"/>
              <a:ext cx="914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ind the opposite of the number. Then find its absolute value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1066680"/>
              <a:ext cx="883908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Opposit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wo numbers that are the same distance from the origin but on opposite sid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Absolute valu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distance from the orig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31120" y="3962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solut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4495680"/>
          <a:ext cx="704880" cy="52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95680"/>
                    <a:ext cx="7048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354480" y="28954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ppo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49520" y="2438280"/>
          <a:ext cx="1176480" cy="45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49520" y="2438280"/>
                    <a:ext cx="11764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14640" y="3505320"/>
          <a:ext cx="1105200" cy="52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14640" y="3505320"/>
                    <a:ext cx="11052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202920" y="3962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solut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143240" y="4495680"/>
          <a:ext cx="800280" cy="5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3240" y="4495680"/>
                    <a:ext cx="800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49960" y="28954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ppo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326280" y="2438280"/>
          <a:ext cx="1214280" cy="451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2438280"/>
                    <a:ext cx="12142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7165800" y="3505320"/>
          <a:ext cx="393840" cy="525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5800" y="3505320"/>
                    <a:ext cx="3938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098400" y="3962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solute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162920" y="4495680"/>
          <a:ext cx="395280" cy="525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62920" y="4495680"/>
                    <a:ext cx="395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9200" y="388620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4419720"/>
          <a:ext cx="2036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2036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0" y="609480"/>
            <a:ext cx="9144000" cy="1924560"/>
            <a:chOff x="0" y="609480"/>
            <a:chExt cx="9144000" cy="1924560"/>
          </a:xfrm>
        </p:grpSpPr>
        <p:sp>
          <p:nvSpPr>
            <p:cNvPr id="156" name=""/>
            <p:cNvSpPr/>
            <p:nvPr/>
          </p:nvSpPr>
          <p:spPr>
            <a:xfrm>
              <a:off x="0" y="60948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peed and the velocity of the object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1066680"/>
              <a:ext cx="8839080" cy="14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pee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positive form of the rat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Velocit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indicates speed and direction, can be positive or negativ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15840" y="495288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5410080"/>
          <a:ext cx="2347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410080"/>
                    <a:ext cx="2347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946120" y="388620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p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257800" y="4343400"/>
          <a:ext cx="275436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343400"/>
                    <a:ext cx="2754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243828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9. A duck hawk descends at 150 miles per hour when striking its pr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43828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10. A balloon descends at 17 feet per second when la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8720" y="495288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eloc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05520" y="5410080"/>
          <a:ext cx="3108240" cy="70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5410080"/>
                    <a:ext cx="31082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3-08-25T12:47:30Z</dcterms:modified>
  <cp:revision>35</cp:revision>
  <dc:subject/>
  <dc:title>No Slide Title</dc:title>
</cp:coreProperties>
</file>